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A610-40B4-4066-BDF1-15749970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B022-BC03-420D-B58B-41CBB1BF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46B8-DBCE-49BC-AB2A-B15EF2A5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C524-2805-4401-AC01-A9F7CBC8C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18A2-D47F-4BD6-A30F-DB86814E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20D5-7646-4A7A-BD59-9C41C249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4086-18D3-49F0-8214-E1D8821A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33F8-B22C-4FA7-B031-8430252A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E252-C7F3-4F13-A94C-DB20D09B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7A82-663E-4BCA-95C8-D688E948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7E9F-B162-42EF-A98E-1F81E5F6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6501-37FA-4105-B3FD-1CFBA868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705F-4D30-4D15-8899-304BA722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39D7-5EF1-47C1-8BB0-C5165223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B54C-CE74-4A3A-B78C-63481787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C2A8-7BB3-4F91-8E18-7245A76D9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DB6E-2FC3-41D3-AD33-6E3EC880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75CD-8DDB-4741-9A9E-A6C52E2A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0399-0ED5-4F34-BF79-386E87A5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C74F-B5A9-4DF8-8DDB-41FE265A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8536-7E8B-47C3-B90C-5F2A7B23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BB56-B6A2-4EB1-AAA6-FCC59F99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DD7C-9A34-4089-B4C5-6B3774D8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1570-FB45-4E35-AFA2-6BCF58C0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7E10-F7F4-4DB6-A613-36E604BE8538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5494-ED68-4FC9-BCCD-D9C3B2A77FF2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0920" y="242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PORÓWNYWANIE 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UŁAMKÓW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O TYCH SAMYCH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LICZNIK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YKŁA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6640" y="967680"/>
            <a:ext cx="80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abcia Marzeny lubi piec ciasta. Przygotowała dwie rolady. Jedną z makiem, a drugą z bitą śmietaną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6640" y="162972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jome zjadł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546280" y="1628640"/>
                <a:ext cx="2160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662360" y="1584360"/>
                <a:ext cx="1526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2725560" y="1627920"/>
            <a:ext cx="20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ady z makiem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42000" y="1627920"/>
            <a:ext cx="37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ady z bitą śmietan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1988280"/>
            <a:ext cx="37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órej rolady zjedzono więcej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11280" y="2708280"/>
          <a:ext cx="30164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2708280"/>
                    <a:ext cx="30164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157720" y="2708280"/>
          <a:ext cx="2992680" cy="22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57720" y="2708280"/>
                    <a:ext cx="299268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646280" y="2437200"/>
            <a:ext cx="166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Rolada z maki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46640" y="2392920"/>
            <a:ext cx="23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Rolada z bitą śmietan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32000" y="5272920"/>
            <a:ext cx="52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ięcej zjedzono rolady z bitą śmietaną, za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7000" y="5634000"/>
          <a:ext cx="1620720" cy="96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7000" y="5634000"/>
                    <a:ext cx="16207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7586640" y="3924360"/>
          <a:ext cx="539640" cy="96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86640" y="3924360"/>
                    <a:ext cx="53964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986280" y="3924360"/>
          <a:ext cx="541440" cy="96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86280" y="3924360"/>
                    <a:ext cx="54144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YKŁA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6640" y="1104120"/>
            <a:ext cx="52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Zuzanna i Ola jadły torciki lodowe. Zuzia zjadł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46640" y="1088280"/>
            <a:ext cx="26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rciku lodowego, a O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41280" y="1493280"/>
            <a:ext cx="54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óra z dziewczynek zjadła większą część tor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2000" y="46425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ięcej torciku zjadła Ola, za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967360" y="954000"/>
                <a:ext cx="2095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8596440" y="998640"/>
                <a:ext cx="261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7" name="" descr=""/>
          <p:cNvPicPr/>
          <p:nvPr/>
        </p:nvPicPr>
        <p:blipFill>
          <a:blip r:embed="rId1"/>
          <a:srcRect l="14354" t="13739" r="21254" b="18131"/>
          <a:stretch/>
        </p:blipFill>
        <p:spPr>
          <a:xfrm>
            <a:off x="2141640" y="2124000"/>
            <a:ext cx="4498920" cy="177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5562720" y="3743280"/>
          <a:ext cx="304560" cy="63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3743280"/>
                    <a:ext cx="3045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906640" y="3743280"/>
          <a:ext cx="28260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06640" y="3743280"/>
                    <a:ext cx="2826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716280" y="5229360"/>
          <a:ext cx="1395360" cy="915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16280" y="5229360"/>
                    <a:ext cx="139536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NIO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46280" y="1314360"/>
            <a:ext cx="7993080" cy="3376800"/>
            <a:chOff x="746280" y="1314360"/>
            <a:chExt cx="7993080" cy="3376800"/>
          </a:xfrm>
        </p:grpSpPr>
        <p:sp>
          <p:nvSpPr>
            <p:cNvPr id="137" name=""/>
            <p:cNvSpPr/>
            <p:nvPr/>
          </p:nvSpPr>
          <p:spPr>
            <a:xfrm>
              <a:off x="2044800" y="1654560"/>
              <a:ext cx="516888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Z dwóch ułamków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o tych samych licznikac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en jest większy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który ma mniejsz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mianownik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46280" y="1314360"/>
              <a:ext cx="7993080" cy="3376800"/>
            </a:xfrm>
            <a:prstGeom prst="ellipse">
              <a:avLst/>
            </a:prstGeom>
            <a:noFill/>
            <a:ln w="572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6640" y="1088280"/>
            <a:ext cx="40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konując rysunek porównaj ułamk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0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511280" y="1943280"/>
                <a:ext cx="1373040" cy="23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i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PORÓWNYWANIE UŁAMKÓW O RÓŻNYCH MIANOWNIK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6280" y="954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6280" y="1132920"/>
            <a:ext cx="81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y porównywaniu ułamków korzystamy ze znanej nam już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tody „na krzyż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0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2000" y="171864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ównaj ułamk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771640" y="1584360"/>
                <a:ext cx="711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i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1" name=""/>
          <p:cNvGraphicFramePr/>
          <p:nvPr/>
        </p:nvGraphicFramePr>
        <p:xfrm>
          <a:off x="3176640" y="2390760"/>
          <a:ext cx="180000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6640" y="2390760"/>
                    <a:ext cx="1800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1198080" y="3584520"/>
            <a:ext cx="693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· 13 = 15 ·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1 = 1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1 &lt; 1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· 13 = 15 · 9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w większym iloczynie szukamy licznika ułam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· 13 &lt; 15 ·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511280" y="5273640"/>
                <a:ext cx="9223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2771640" y="5407920"/>
            <a:ext cx="45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łamek o znalezionym liczniku jest więks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NIO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746280" y="1314360"/>
            <a:ext cx="7993080" cy="3376800"/>
            <a:chOff x="746280" y="1314360"/>
            <a:chExt cx="7993080" cy="3376800"/>
          </a:xfrm>
        </p:grpSpPr>
        <p:sp>
          <p:nvSpPr>
            <p:cNvPr id="160" name=""/>
            <p:cNvSpPr/>
            <p:nvPr/>
          </p:nvSpPr>
          <p:spPr>
            <a:xfrm>
              <a:off x="2066400" y="1899000"/>
              <a:ext cx="51260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orównując ułamki 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różnych mianownikach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tosujemy metodę</a:t>
              </a:r>
              <a:br>
                <a:rPr sz="3200"/>
              </a:b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 mnożenia „na krzyż”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280" y="1314360"/>
              <a:ext cx="7993080" cy="3376800"/>
            </a:xfrm>
            <a:prstGeom prst="ellipse">
              <a:avLst/>
            </a:prstGeom>
            <a:noFill/>
            <a:ln w="572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39:39Z</dcterms:modified>
  <cp:revision>55</cp:revision>
  <dc:subject/>
  <dc:title>Slajd 1</dc:title>
</cp:coreProperties>
</file>